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2374-EF40-4295-A6D1-454369EB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1E5-EA3D-4406-B2BC-5C5D99129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9E15-F4EF-4B06-8591-E93D8E7D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A99-92FC-4566-A58C-13DE900CB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594-67CA-4C6B-BACD-20E6219D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B36F-8302-4ABA-A078-6CBE4B6C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29A-8F0D-4160-8E71-42BA0192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2BFF-5869-4136-81F0-A0C74193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52CF-9C3B-41C4-8B75-4C830CFB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F461-9A15-4662-B680-06B320F4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; mention that our first question is warm and fuzzy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D2EE-7DB2-41EE-A27A-E88A7FD2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pen routed vs open-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9C46-9C2E-42DE-A69E-F969D540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 more than 25 minutes on slides 19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CDF1-6FC1-4EFC-B965-0B0391E14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75FD-7874-4DAE-8112-525B1B76F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762-CD2F-4362-8AC2-7F907CC4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F5D-C8A3-458B-846C-77F1B591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C2D0-A3B8-4CE1-984F-A46B790C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090-584D-4FC7-948C-AA9DC503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81C1-136D-4882-9BA1-F62E9570F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D369-880E-4AF8-9DC0-B7D6E01A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AB02-A2D1-4B37-BEEC-F93D1E3C0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3DF0-B245-4A8F-A33B-68142DBBA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75A7-3E96-43AA-8CCE-BFB87C41B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49AE-C6A0-4556-821E-FC93A2F1F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19E-F258-4831-881C-3E3526B5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70AB-6D65-4C69-B8B6-3F5901BD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E28B-5DDA-48F5-8DC8-EC145AAD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5468-E668-4C0C-8C63-9ED944D2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732A-784E-41C4-AD42-D20102F83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6E6-D68A-4A97-AE5F-17144B47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4331-D982-41C7-8BF8-987585D3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519-7D72-4AC7-B68B-8C0B6647B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ADA-4A83-47D9-B777-ACF781E29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B7D1-19DC-4275-A081-51420C20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3D2-5F38-4670-8E1E-8DDA84F0F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8914-7AF1-4EF7-89DC-DE405F93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FF9B-8614-49A0-AAD0-34DD565AB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FF3C-6EC6-4694-B2E0-EB185677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194-7889-491A-A394-E69DEF5B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FB1-0573-4839-A3D6-8ED0E59E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834B-61DD-43DE-A332-C961BA5A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4E6-1D5D-4420-985E-7F983A81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C06A-4A94-44D8-8901-05978347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ABF1-9376-4F52-AC18-2AC810EB3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981-6713-4EE2-9F07-AD83E7D5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421E-13B6-4378-8692-9125E640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CEE1-1F7A-4FE3-B462-5ABDAE2BE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BD5D-DEA9-422D-BAEF-E45F87E3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200-E7D2-406B-95A6-EDD3B36F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7B76-7A6B-401A-889D-7A598780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DD72-71BF-42AE-974D-B987C284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AA24-C470-4A0D-8DD8-82F51B559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6FDF-7E94-420A-92FF-32873BC53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F70A-5986-4059-BF9D-9F1507EB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20D5-CB66-460C-9DE2-F2F6C60C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2BB2-2B8A-4811-9799-F0E83E34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patterns can start at the same place but grow at different rates; maybe the number idea that the next number is in the -7s or hig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1CE-2A3B-463B-81C2-9781FAD0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693D-1417-4A9B-B1BF-00960B51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82B-A8B3-48C2-8A0F-63F1CE6D6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0978-5A8C-434D-BC14-E0FC7B1D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4E43-F291-4A84-B3E7-48441D3B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C49-3524-4DC8-89C0-F26461B9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7CB2-FDBE-4CAF-9DBC-E80E0BC6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rop if time is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8D2-A1B7-4CA3-A69B-4E9BEB8BC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851C-E7FF-4817-9A62-4D852799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8D27-6148-47C4-B9EA-9D68D185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D9D8-EF36-44B6-A776-C381B28E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BE9-1B47-4BE0-8C73-5480855E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E5A9-8C75-4CAA-B369-B83630EE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CDA-5A80-40BC-8984-9CA6F9A21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EE6-1E6D-4D39-B694-812B990E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058-5F69-4D58-A9B4-BB522C812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E6AA-234E-4627-BF57-2737DE64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26F8-3A10-45C7-8F80-B23E4963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C9A-53D3-4090-A8A6-6A6A95B0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9988-E28D-4ED0-B192-4E531464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D3DA-583A-4645-B515-02D79A00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9795-A072-4D36-B48C-9AC458EC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0F7-D2E1-4403-A9F4-C00A8F7D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6F1-441F-4AA8-9B57-1A98FDD0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9DE-FD20-4BB8-AF05-20E41CDA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D1C-8BAE-444F-B4CE-421B1FE0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94E-4933-40CB-B8B4-01665C1D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F81-1E3E-4D4E-949E-9A71506B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D01-EBFE-4092-9147-306EF840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083-BEAB-4880-9467-76E82DE0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8FC-C47F-4832-BC73-4C62FAA0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29B-4F84-4801-B284-4FDBC4C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C34-A288-4BCD-944F-242733F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D7F-CD96-4595-967A-BACADE4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D4A-5DEF-4072-9768-66D0257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F13C-5353-4B07-92D1-E5B4CA3C86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Da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88A0-0337-4DA6-B5A3-B23304DB2E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1905120"/>
            <a:ext cx="741672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that describ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23B-7A9A-44A4-B168-CB6F4C388D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provides a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0DAC-995E-4D32-BBBE-BA5834ECBC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27432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et of big ideas for patterns and algebra are listed in the program booklet you’ve recei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F35D-DBD3-486A-8866-EE43BE0971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7432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ose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at our minds-on activity relates to both   BI 1 and BI 5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383-1BF0-4785-B594-CA002F885A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43000" y="26668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that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38ED-16F2-4C30-A90C-2E61ECF4A0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FC4B-47B9-445C-BB35-F680953773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43000" y="26668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CC4-F2F7-48AD-8BC1-667F49E457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143000" y="2149560"/>
            <a:ext cx="74167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otice about the question sty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02E8-7C18-4107-8EC9-BA6FF6BC92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y do you think it’s important that students know that pattern rules need to be defined? (Big Idea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7D1A-6B1B-430E-A4A0-15E17A2786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143000" y="2666880"/>
            <a:ext cx="741672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an you think of other instances where number, geometry, measurement or data topics are taught using pattern concepts? (BI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55E4-0DBB-435E-A50C-F622A8AB50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3 show the notion of generalization?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6CE-807A-4579-9D13-EF0ACF832C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4 broaden a student’s understanding of the value of multiple represen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A6E-01AD-44B6-A20C-F661382C22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143000" y="266688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5 help broaden students’ ideas of what kinds of relationships ther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7EF-EE9E-4311-B2BD-77168D4EC9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you think Big Idea 6 is a valuable one for student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4056-8440-4829-959E-D37CC8020F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1828800"/>
            <a:ext cx="741708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857-B750-47FF-A16A-5C6AD15D6B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1828800"/>
            <a:ext cx="741708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y thinking about the big ideas, it becomes easier to develop appropriate lesson goals and appropriate consolidating questions to bring them 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742-C01D-4F78-A7C3-C3ECDBCC6D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182880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thinking about the Big Idea: Comparing patterns reveals classes of patter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F4B5-B1D5-4AF8-9ACA-297247653C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1828800"/>
            <a:ext cx="7417080" cy="79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You are likely to ask: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ich two of these patterns do you think are most alike and wh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8, 11, 14, 17, 20,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10, 20, 40, 80,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10, 15, 20, 25,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20, 35, 50, …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C3A4-5042-4CEB-B294-C0E7362DB2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1828800"/>
            <a:ext cx="7417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ther than simply asking for a definition of a linear growing patte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CBA8-36A2-4967-BDDC-5927358BBD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42920" y="201456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pattern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FF88-FDC2-4707-A640-4727739CC0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251460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s it easier for them to make connections to prior knowledge and to move forward in new dir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47B0-3ADF-40AC-95E9-0108AF5691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2133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1CA0-5244-444F-9912-9C78E83829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Picture 1.png"/>
          <p:cNvPicPr/>
          <p:nvPr/>
        </p:nvPicPr>
        <p:blipFill>
          <a:blip r:embed="rId1"/>
          <a:stretch/>
        </p:blipFill>
        <p:spPr>
          <a:xfrm>
            <a:off x="5181480" y="3657600"/>
            <a:ext cx="1873440" cy="1521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2701-4A32-4441-BAA3-6FF98773BA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514600" y="342900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90720" y="4495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5562720" y="57913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wn Arrow 11"/>
          <p:cNvSpPr/>
          <p:nvPr/>
        </p:nvSpPr>
        <p:spPr>
          <a:xfrm>
            <a:off x="6095880" y="51055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5562720" y="388620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wn Arrow 15"/>
          <p:cNvSpPr/>
          <p:nvPr/>
        </p:nvSpPr>
        <p:spPr>
          <a:xfrm rot="16200000">
            <a:off x="4381560" y="3428640"/>
            <a:ext cx="381240" cy="16002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DC92-D934-4E5E-B90D-1A5ACF5339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38080" y="34290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metimes you can reframe the big ideas for your topic. For example, a trig big idea migh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37A2-F1EB-4C6E-BDFE-A84A04A5FB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838080" y="34290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imited information about a periodic relationship can sometimes, but not always, reveal other information about that relationshi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529F-E662-42C9-A50E-5906E9332B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990720" y="2209680"/>
            <a:ext cx="7619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en a relationship appears to be periodic in nature, then it is appropriate to consider a trigonometric function to model the relationship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90720" y="3048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use the Posing Powerful Questions Template (PPQT) as a t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B374-F69E-4558-A151-CB5B0EDD4B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7609-1C89-45FD-80F3-B7DB7CFF4F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icture 3.png"/>
          <p:cNvPicPr/>
          <p:nvPr/>
        </p:nvPicPr>
        <p:blipFill>
          <a:blip r:embed="rId1"/>
          <a:stretch/>
        </p:blipFill>
        <p:spPr>
          <a:xfrm>
            <a:off x="0" y="1979640"/>
            <a:ext cx="8991720" cy="2851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43434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at bi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276696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st likely BI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74D-8F93-4726-B6FB-E1862CA4D5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ist the 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EA9-09EF-4593-B51C-2727B6570A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Picture 1.png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26762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114480" y="4038480"/>
            <a:ext cx="8915400" cy="60984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you convince someone the pattern grows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7A12-F5F3-43F4-8411-427E2082E4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reate an appropriat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8887-8EB4-40C5-A3CD-8AD3C57B7A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Picture 2.pn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490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76320" y="2286000"/>
            <a:ext cx="7924680" cy="6094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2590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need to ask a question or two that gets RIGHT to your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ECC-9E5C-42FA-841D-DE71AAB7C0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Picture 1.png"/>
          <p:cNvPicPr/>
          <p:nvPr/>
        </p:nvPicPr>
        <p:blipFill>
          <a:blip r:embed="rId1"/>
          <a:stretch/>
        </p:blipFill>
        <p:spPr>
          <a:xfrm>
            <a:off x="0" y="4800600"/>
            <a:ext cx="9144000" cy="1816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"/>
          <p:cNvSpPr/>
          <p:nvPr/>
        </p:nvSpPr>
        <p:spPr>
          <a:xfrm>
            <a:off x="1219320" y="91440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a consolidation question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BDF6-D39A-4E19-A658-6F8ED3481D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Picture 2 08-36-18.png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2490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0" y="4876920"/>
            <a:ext cx="8610480" cy="137160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.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DC6A-406B-4560-A2C6-837EA4ABD5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o you think it most closely relates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655B-BFE9-4A22-B70C-FB1F13FCA1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182880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ight have picked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I 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inking that solving an equation means representing it in a different, easier to recognize. fo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13E-0335-485D-BB0F-E17AE9FFDC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ight have picked   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BI 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inking that you had some information that could give you other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060-9F32-48AB-9958-B3BBC730D0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66680" y="1828800"/>
            <a:ext cx="741708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ight have picked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I 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inking that an equation is a way to describe a change and solving it is just about “undoing” the ch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C366-B53C-418F-AF98-F6E3C5EFC1A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could be the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27432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lesson goal should be informed by which of those ideas you want to focus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CAC6-5545-409F-9D2B-DB8D1C534C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3133-6181-49F2-B0A2-78249C2275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Picture 1.pn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563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0" y="2590920"/>
            <a:ext cx="9144000" cy="8380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4114800"/>
            <a:ext cx="9144000" cy="9907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66680" y="289548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FD7-99FF-4C77-AE6F-C072465917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o clarify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DFAE-05C8-4783-9CF0-52E3C40C1D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F7DC-AC4D-4E84-AE0F-AA7A293EA4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6CC-A221-457E-AE98-5CFD690E48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Picture 2.png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75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icture 1.png"/>
          <p:cNvPicPr/>
          <p:nvPr/>
        </p:nvPicPr>
        <p:blipFill>
          <a:blip r:embed="rId2"/>
          <a:stretch/>
        </p:blipFill>
        <p:spPr>
          <a:xfrm>
            <a:off x="0" y="2147760"/>
            <a:ext cx="9144000" cy="25624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4648320"/>
            <a:ext cx="9144000" cy="1523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3D9-28D3-4B96-A35A-896B250239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Picture 1.png"/>
          <p:cNvPicPr/>
          <p:nvPr/>
        </p:nvPicPr>
        <p:blipFill>
          <a:blip r:embed="rId1"/>
          <a:stretch/>
        </p:blipFill>
        <p:spPr>
          <a:xfrm>
            <a:off x="0" y="2138400"/>
            <a:ext cx="9144000" cy="2581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0" y="2133720"/>
            <a:ext cx="8915400" cy="8380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3657600"/>
            <a:ext cx="8991720" cy="1066680"/>
          </a:xfrm>
          <a:prstGeom prst="rect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Picture 3.png"/>
          <p:cNvPicPr/>
          <p:nvPr/>
        </p:nvPicPr>
        <p:blipFill>
          <a:blip r:embed="rId1"/>
          <a:stretch/>
        </p:blipFill>
        <p:spPr>
          <a:xfrm>
            <a:off x="228600" y="4876920"/>
            <a:ext cx="6756480" cy="1654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B2F2-D46F-4AC2-A6CF-16E1DD7326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4876920"/>
            <a:ext cx="8991720" cy="1676160"/>
          </a:xfrm>
          <a:prstGeom prst="rect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Picture 1.png"/>
          <p:cNvPicPr/>
          <p:nvPr/>
        </p:nvPicPr>
        <p:blipFill>
          <a:blip r:embed="rId2"/>
          <a:stretch/>
        </p:blipFill>
        <p:spPr>
          <a:xfrm>
            <a:off x="0" y="2138400"/>
            <a:ext cx="9144000" cy="258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85F-75B4-46D7-A47C-F80B9DF39E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Picture 2.png"/>
          <p:cNvPicPr/>
          <p:nvPr/>
        </p:nvPicPr>
        <p:blipFill>
          <a:blip r:embed="rId1"/>
          <a:stretch/>
        </p:blipFill>
        <p:spPr>
          <a:xfrm>
            <a:off x="0" y="2163600"/>
            <a:ext cx="9144000" cy="2530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0" y="2133720"/>
            <a:ext cx="8991720" cy="8380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8160" y="3733920"/>
            <a:ext cx="9067680" cy="8380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B88-96EB-4EEC-9299-F18A68FAEC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Picture 2.png"/>
          <p:cNvPicPr/>
          <p:nvPr/>
        </p:nvPicPr>
        <p:blipFill>
          <a:blip r:embed="rId1"/>
          <a:stretch/>
        </p:blipFill>
        <p:spPr>
          <a:xfrm>
            <a:off x="0" y="4800600"/>
            <a:ext cx="9144000" cy="1681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38160" y="4800600"/>
            <a:ext cx="9067680" cy="12952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Picture 2.png"/>
          <p:cNvPicPr/>
          <p:nvPr/>
        </p:nvPicPr>
        <p:blipFill>
          <a:blip r:embed="rId2"/>
          <a:stretch/>
        </p:blipFill>
        <p:spPr>
          <a:xfrm>
            <a:off x="0" y="2163600"/>
            <a:ext cx="9144000" cy="253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219320" y="214956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4935-019E-4D2D-BE22-F8F56387D8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93760" y="26067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F967-9974-4AA8-A2C0-11FD56A4AA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3FF9-1290-4341-B1B9-DDA7405E76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the important ma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underlying math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80A-1F6E-4111-991E-487526D645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BE51-B4FF-4439-B936-8C093CD9B7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21A5-ECC7-4E12-86E1-B572ED3D52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066680" y="289548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d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7E0B-F612-4277-A5A3-65EB8F683E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Picture 1.png"/>
          <p:cNvPicPr/>
          <p:nvPr/>
        </p:nvPicPr>
        <p:blipFill>
          <a:blip r:embed="rId1"/>
          <a:stretch/>
        </p:blipFill>
        <p:spPr>
          <a:xfrm>
            <a:off x="1447920" y="4114800"/>
            <a:ext cx="7048440" cy="14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4A3C-6116-4DF1-81A5-C25A900BA2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CA2B-7755-4578-948C-69BB40FBA3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144E-FCCB-415C-8761-220A375656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460B-6E7E-42AB-93BB-64AF009010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Picture 5.p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A88-61E1-4452-B3CF-DD4B1FA572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 this were the goa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CF24-22E0-43FE-972B-E7C6E8A89D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Picture 1.png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EFD-287E-4530-8FAB-BC58514685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Picture 3.png"/>
          <p:cNvPicPr/>
          <p:nvPr/>
        </p:nvPicPr>
        <p:blipFill>
          <a:blip r:embed="rId1"/>
          <a:stretch/>
        </p:blipFill>
        <p:spPr>
          <a:xfrm>
            <a:off x="0" y="5052960"/>
            <a:ext cx="9144000" cy="18050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6"/>
          <p:cNvSpPr/>
          <p:nvPr/>
        </p:nvSpPr>
        <p:spPr>
          <a:xfrm>
            <a:off x="0" y="5105520"/>
            <a:ext cx="9144000" cy="144756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Picture 1.png"/>
          <p:cNvPicPr/>
          <p:nvPr/>
        </p:nvPicPr>
        <p:blipFill>
          <a:blip r:embed="rId2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14400" y="990720"/>
            <a:ext cx="7238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inds-on might lead to students being able to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66680" y="32004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1A9-6C45-4219-8A6B-0480A4C4D0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9FE-FF72-4DCC-8775-114467CCD0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066680" y="99072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F8FA-4119-470C-938D-B21C657866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066680" y="9907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4D5-BEF8-43C2-B71F-C2482CAD30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51460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a partner, choose 1 or 2 of these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 them to relate more explicitly to one or more of the big idea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EFBE-DC16-4A60-807F-FC6909866B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143000" y="2286000"/>
            <a:ext cx="7416720" cy="78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talked earlier about how consolidating questions should tie to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should tell you if your goal was achie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4992-4066-4C6F-A2A6-2992D10A9A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0221-6760-4D75-9C1F-95849AE7CC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Picture 1.png"/>
          <p:cNvPicPr/>
          <p:nvPr/>
        </p:nvPicPr>
        <p:blipFill>
          <a:blip r:embed="rId1"/>
          <a:stretch/>
        </p:blipFill>
        <p:spPr>
          <a:xfrm>
            <a:off x="0" y="1860480"/>
            <a:ext cx="9144000" cy="313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36D-5D46-4157-8CCB-459EAC60A7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Picture 2.png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3921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0" y="5029200"/>
            <a:ext cx="9144000" cy="1143000"/>
          </a:xfrm>
          <a:prstGeom prst="rect">
            <a:avLst/>
          </a:prstGeom>
          <a:noFill/>
          <a:ln w="2844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Picture 1.png"/>
          <p:cNvPicPr/>
          <p:nvPr/>
        </p:nvPicPr>
        <p:blipFill>
          <a:blip r:embed="rId2"/>
          <a:stretch/>
        </p:blipFill>
        <p:spPr>
          <a:xfrm>
            <a:off x="0" y="2117880"/>
            <a:ext cx="9144000" cy="262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37D7-9A3D-4DE4-8BB9-03219EE60A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Picture 1.png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262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387E-4792-4C60-A34C-125E89F9D3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Picture 2.png"/>
          <p:cNvPicPr/>
          <p:nvPr/>
        </p:nvPicPr>
        <p:blipFill>
          <a:blip r:embed="rId1"/>
          <a:stretch/>
        </p:blipFill>
        <p:spPr>
          <a:xfrm>
            <a:off x="152280" y="4952880"/>
            <a:ext cx="8991720" cy="11098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6"/>
          <p:cNvSpPr/>
          <p:nvPr/>
        </p:nvSpPr>
        <p:spPr>
          <a:xfrm>
            <a:off x="152280" y="4952880"/>
            <a:ext cx="8610840" cy="106704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Picture 1.png"/>
          <p:cNvPicPr/>
          <p:nvPr/>
        </p:nvPicPr>
        <p:blipFill>
          <a:blip r:embed="rId2"/>
          <a:stretch/>
        </p:blipFill>
        <p:spPr>
          <a:xfrm>
            <a:off x="0" y="2117880"/>
            <a:ext cx="9144000" cy="262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066680" y="182880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a lesson in the resource you brou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a partner to restate the goal to focus more on a big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3570-0666-4F2D-8656-198802EDFD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175248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akes sense that there are a lot of linear patterns that start with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xt matters in deciding how fast a pattern grows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A190-908C-4479-888B-5DEC453C41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66680" y="182880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consolidating questions to match your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B3D-4476-49B2-8ADF-D9EE064417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43828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e PPQT  to record all of your think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444C-457D-4CEE-B93F-3779343B0B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05F-DA4F-4F8C-A84D-90FB631A5C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066680" y="236232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when creating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D0D4-1CF1-4A78-BB8A-0885CCFD86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143000" y="190512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0127-6D9F-4243-9D5D-099F23E032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9DAE-CD5A-4DA2-9629-F696A2E2F0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28:27Z</dcterms:created>
  <dc:creator>PSteele</dc:creator>
  <dc:description/>
  <dc:language>en-US</dc:language>
  <cp:lastModifiedBy>Marian Small</cp:lastModifiedBy>
  <dcterms:modified xsi:type="dcterms:W3CDTF">2009-09-28T13:00:04Z</dcterms:modified>
  <cp:revision>273</cp:revision>
  <dc:subject/>
  <dc:title>Slide 1</dc:title>
</cp:coreProperties>
</file>